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D68-196A-4E69-B013-498F39D8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735-9F91-4AE8-BA28-142A8F2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575-D20B-4C3C-B739-00FDDCB0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FA4-5039-4AF3-B20C-013F231D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47AC-5018-4CAC-8B81-EC64DFB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A95E-5D8B-4967-B62A-A2CC8E1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3981-6630-44F6-B280-F840772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5B4-A51B-4503-BBAA-8FE5B57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377-A0E5-4E46-9314-B6466AA2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9AA-92D3-40AB-BBB4-11D7A50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90E-AC71-4D35-B1DF-49569D6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72D-D689-4262-8209-2ACD137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D29-9075-4C6F-95CC-306E524C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C047-A338-4C1D-8E59-59FD4ED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61B-810D-4D75-91A8-BF112805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3BDC-0A64-4DD5-A448-58186B71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0B93-EAB7-4C80-9FC2-5976E723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41F-D10F-4296-BADA-49BEFEB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CB0-4A21-4310-B0F1-BB4843F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A53-6E94-4B85-94E6-B018863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AC8-AF56-4B34-8CB2-9B1CD133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4F2-518E-4B84-87DF-F39E915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E61-B2EC-41A5-A71A-900E19E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FCA-6362-4A09-B2D0-5AA0D5C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ABDF-8FFB-45BC-BD1C-F8DCA24A5BA3}" type="slidenum"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67b4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160-ABBF-4B0F-BA62-8475F8FEE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../devmodules/dragforces/index.html" TargetMode="External"/><Relationship Id="rId2" Type="http://schemas.openxmlformats.org/officeDocument/2006/relationships/hyperlink" Target="file:///../../../devmodules/probstat/meanvar/index.html" TargetMode="External"/><Relationship Id="rId3" Type="http://schemas.openxmlformats.org/officeDocument/2006/relationships/hyperlink" Target="file:///../../../devmodules/mechanicalosc/vibstring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Mark H. Holmes, Mathematics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Robert L. Spilker, Biomedical Engineering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Kenneth S. Manning, Links Technical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76320"/>
            <a:ext cx="7772400" cy="3797280"/>
            <a:chOff x="762120" y="76320"/>
            <a:chExt cx="7772400" cy="3797280"/>
          </a:xfrm>
        </p:grpSpPr>
        <p:pic>
          <p:nvPicPr>
            <p:cNvPr id="148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429000" y="3048120"/>
              <a:ext cx="5105520" cy="82548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Rensselaer Polytechnic Institute</a:t>
              </a:r>
              <a:br>
                <a:rPr sz="2400"/>
              </a:b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http://links.math.rpi.edu/</a:t>
              </a:r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151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4a84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20920" y="3581280"/>
            <a:ext cx="6759360" cy="2784600"/>
            <a:chOff x="1420920" y="3581280"/>
            <a:chExt cx="6759360" cy="2784600"/>
          </a:xfrm>
        </p:grpSpPr>
        <p:sp>
          <p:nvSpPr>
            <p:cNvPr id="215" name=""/>
            <p:cNvSpPr/>
            <p:nvPr/>
          </p:nvSpPr>
          <p:spPr>
            <a:xfrm>
              <a:off x="1420920" y="4308480"/>
              <a:ext cx="525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raph Theo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’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16" name="shortpath2" descr=""/>
            <p:cNvPicPr/>
            <p:nvPr/>
          </p:nvPicPr>
          <p:blipFill>
            <a:blip r:embed="rId1"/>
            <a:stretch/>
          </p:blipFill>
          <p:spPr>
            <a:xfrm>
              <a:off x="5334120" y="3581280"/>
              <a:ext cx="2846160" cy="278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5370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47920" y="4237200"/>
            <a:ext cx="7162560" cy="2315880"/>
            <a:chOff x="1447920" y="4237200"/>
            <a:chExt cx="7162560" cy="2315880"/>
          </a:xfrm>
        </p:grpSpPr>
        <p:sp>
          <p:nvSpPr>
            <p:cNvPr id="227" name=""/>
            <p:cNvSpPr/>
            <p:nvPr/>
          </p:nvSpPr>
          <p:spPr>
            <a:xfrm>
              <a:off x="1447920" y="50292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28" name="bktrs-g-s" descr=""/>
            <p:cNvPicPr/>
            <p:nvPr/>
          </p:nvPicPr>
          <p:blipFill>
            <a:blip r:embed="rId1"/>
            <a:stretch/>
          </p:blipFill>
          <p:spPr>
            <a:xfrm>
              <a:off x="4648320" y="4237200"/>
              <a:ext cx="3962160" cy="208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1757520"/>
            <a:ext cx="6782040" cy="4186080"/>
            <a:chOff x="1295280" y="1757520"/>
            <a:chExt cx="6782040" cy="4186080"/>
          </a:xfrm>
        </p:grpSpPr>
        <p:pic>
          <p:nvPicPr>
            <p:cNvPr id="232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28764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295280" y="17575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5280" y="2252520"/>
            <a:ext cx="6858000" cy="2928960"/>
            <a:chOff x="1295280" y="2252520"/>
            <a:chExt cx="6858000" cy="2928960"/>
          </a:xfrm>
        </p:grpSpPr>
        <p:sp>
          <p:nvSpPr>
            <p:cNvPr id="240" name=""/>
            <p:cNvSpPr/>
            <p:nvPr/>
          </p:nvSpPr>
          <p:spPr>
            <a:xfrm>
              <a:off x="1295280" y="2252520"/>
              <a:ext cx="6705720" cy="27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and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and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41" name="normalcurves" descr=""/>
            <p:cNvPicPr/>
            <p:nvPr/>
          </p:nvPicPr>
          <p:blipFill>
            <a:blip r:embed="rId1"/>
            <a:stretch/>
          </p:blipFill>
          <p:spPr>
            <a:xfrm>
              <a:off x="5410080" y="4097160"/>
              <a:ext cx="2743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251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52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261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62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272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73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284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85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297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98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Calculus / Transport Phenomena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Vibrating Strings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rimarily math, science, and engineering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~ 25% upper class / graduate level course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 a studio class, workshop, or computer lab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 professor, instructor, and/or a TA is available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One to three class periods, as need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s few as one, as many as desir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Web-based distribu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Math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Applied Topics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aduate Students (RAs)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eb Site Managemen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gramming Suppor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he Evaluation Consortium,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In-house Alpha &amp; Beta Test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ducational Expert Review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teractive Java and Director applet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aper and pencil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extbook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Content Developer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valuation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echnical Support Staff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47920" y="1981080"/>
            <a:ext cx="6799320" cy="4267440"/>
            <a:chOff x="1447920" y="1981080"/>
            <a:chExt cx="6799320" cy="4267440"/>
          </a:xfrm>
        </p:grpSpPr>
        <p:pic>
          <p:nvPicPr>
            <p:cNvPr id="177" name="bung-bri" descr=""/>
            <p:cNvPicPr/>
            <p:nvPr/>
          </p:nvPicPr>
          <p:blipFill>
            <a:blip r:embed="rId1"/>
            <a:stretch/>
          </p:blipFill>
          <p:spPr>
            <a:xfrm>
              <a:off x="5486400" y="3181320"/>
              <a:ext cx="2760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447920" y="1981080"/>
              <a:ext cx="525780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ity &amp; Magnetis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chanical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rent &amp; Resistanc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590920"/>
            <a:ext cx="7010280" cy="3809880"/>
            <a:chOff x="1447920" y="2590920"/>
            <a:chExt cx="7010280" cy="3809880"/>
          </a:xfrm>
        </p:grpSpPr>
        <p:sp>
          <p:nvSpPr>
            <p:cNvPr id="185" name=""/>
            <p:cNvSpPr/>
            <p:nvPr/>
          </p:nvSpPr>
          <p:spPr>
            <a:xfrm>
              <a:off x="1447920" y="2590920"/>
              <a:ext cx="52578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’s Law &amp;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&amp;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xwell’s Equ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gnet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86" name="gauss2d_pc" descr=""/>
            <p:cNvPicPr/>
            <p:nvPr/>
          </p:nvPicPr>
          <p:blipFill>
            <a:blip r:embed="rId1"/>
            <a:stretch/>
          </p:blipFill>
          <p:spPr>
            <a:xfrm>
              <a:off x="4876920" y="3714840"/>
              <a:ext cx="3581280" cy="2685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47920" y="3071880"/>
            <a:ext cx="7130880" cy="3100320"/>
            <a:chOff x="1447920" y="3071880"/>
            <a:chExt cx="7130880" cy="3100320"/>
          </a:xfrm>
        </p:grpSpPr>
        <p:sp>
          <p:nvSpPr>
            <p:cNvPr id="194" name=""/>
            <p:cNvSpPr/>
            <p:nvPr/>
          </p:nvSpPr>
          <p:spPr>
            <a:xfrm>
              <a:off x="1447920" y="3276720"/>
              <a:ext cx="5257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&amp;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&amp;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&amp;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95" name="waterjump" descr=""/>
            <p:cNvPicPr/>
            <p:nvPr/>
          </p:nvPicPr>
          <p:blipFill>
            <a:blip r:embed="rId1"/>
            <a:stretch/>
          </p:blipFill>
          <p:spPr>
            <a:xfrm>
              <a:off x="6095880" y="3071880"/>
              <a:ext cx="248292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47920" y="3809880"/>
            <a:ext cx="7086600" cy="2760840"/>
            <a:chOff x="1447920" y="3809880"/>
            <a:chExt cx="7086600" cy="2760840"/>
          </a:xfrm>
        </p:grpSpPr>
        <p:sp>
          <p:nvSpPr>
            <p:cNvPr id="203" name=""/>
            <p:cNvSpPr/>
            <p:nvPr/>
          </p:nvSpPr>
          <p:spPr>
            <a:xfrm>
              <a:off x="1447920" y="3809880"/>
              <a:ext cx="65530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&amp;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&amp;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04" name="normalcurves" descr=""/>
            <p:cNvPicPr/>
            <p:nvPr/>
          </p:nvPicPr>
          <p:blipFill>
            <a:blip r:embed="rId1"/>
            <a:stretch/>
          </p:blipFill>
          <p:spPr>
            <a:xfrm>
              <a:off x="5791320" y="4572000"/>
              <a:ext cx="274320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6:11:59Z</dcterms:created>
  <dc:creator>Kenneth S. Manning, PhD</dc:creator>
  <dc:description/>
  <dc:language>en-US</dc:language>
  <cp:lastModifiedBy>Kenneth S. Manning, PhD</cp:lastModifiedBy>
  <dcterms:modified xsi:type="dcterms:W3CDTF">2000-06-15T15:23:12Z</dcterms:modified>
  <cp:revision>13</cp:revision>
  <dc:subject/>
  <dc:title>PowerPoint Presentation</dc:title>
</cp:coreProperties>
</file>