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CB7-A7E8-4D09-BC38-FFAADDBE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8F5-1FA3-4466-8C06-70EEB897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47B-FC28-4E69-8125-60CC33F3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D0F-4B08-4BA1-B681-B171316D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4486-20A5-4274-80BF-2DAA0619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65B9-08F4-4879-B999-F5334093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B3A4-99B6-423D-B73D-DC32CC40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303A-DEEA-4752-88A6-C21C1AD3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41CB-3DF6-4409-B1A2-EC9DA16C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F2AA-0692-43C7-B18F-6106EAB1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50CF-9D68-458D-A308-B404C5F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7ED-54E9-43F5-9E7D-3D1A1566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1F21-8C83-4539-B640-7108447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253B-765C-4A03-BA79-814689F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9A8F-A84D-4BF4-B678-0D469EE4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E5F3-03AB-463B-9DF0-76D4ECF0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EF16-9304-45BD-BD0B-06DD3C86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0C2-8B82-4A7F-8397-98209492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393-72BC-4C9A-B2C2-32E01DE7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C29-57DE-4379-BBC2-78605EEF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876-5F27-4D64-A279-B4932442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07D-C0CE-4AD1-8C0B-EAB7790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A9C-DB77-45C2-B7C8-55BC2D2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252-FB19-4ACD-A6DF-A64B61E4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af0e6"/>
                </a:gs>
                <a:gs pos="50000">
                  <a:srgbClr val="f2deb3"/>
                </a:gs>
                <a:gs pos="100000">
                  <a:srgbClr val="faf0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4a8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8CB5-6715-4C4B-BF10-B2DCAEC6BCB7}" type="slidenum">
              <a:rPr b="0" lang="en-US" sz="1400" spc="-1" strike="noStrike">
                <a:solidFill>
                  <a:srgbClr val="4a4a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67b4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af0e6"/>
                </a:gs>
                <a:gs pos="50000">
                  <a:srgbClr val="f2deb3"/>
                </a:gs>
                <a:gs pos="100000">
                  <a:srgbClr val="faf0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af0e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a4a8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3D84-D7E1-4436-8A29-3160ECC49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4a4a8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4a4a8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/../devmodules/dragforces/index.html" TargetMode="External"/><Relationship Id="rId2" Type="http://schemas.openxmlformats.org/officeDocument/2006/relationships/hyperlink" Target="file:///../../devmodules/probstat/meanvar/index.html" TargetMode="External"/><Relationship Id="rId3" Type="http://schemas.openxmlformats.org/officeDocument/2006/relationships/hyperlink" Target="file:///../../devmodules/mechanicalosc/vibstring/index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Dir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Mark H. Holmes, Mathematics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Robert L. Spilker, Biomedical Engineering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50720">
              <a:lnSpc>
                <a:spcPct val="100000"/>
              </a:lnSpc>
              <a:spcBef>
                <a:spcPts val="499"/>
              </a:spcBef>
              <a:buClr>
                <a:srgbClr val="4a4a8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Kenneth S. Manning, Links Technical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76320"/>
            <a:ext cx="7772400" cy="3431520"/>
            <a:chOff x="762120" y="76320"/>
            <a:chExt cx="7772400" cy="3431520"/>
          </a:xfrm>
        </p:grpSpPr>
        <p:pic>
          <p:nvPicPr>
            <p:cNvPr id="148" name="logonew" descr=""/>
            <p:cNvPicPr/>
            <p:nvPr/>
          </p:nvPicPr>
          <p:blipFill>
            <a:blip r:embed="rId1"/>
            <a:stretch/>
          </p:blipFill>
          <p:spPr>
            <a:xfrm>
              <a:off x="762120" y="76320"/>
              <a:ext cx="5105160" cy="29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429000" y="3048120"/>
              <a:ext cx="5105520" cy="459720"/>
            </a:xfrm>
            <a:prstGeom prst="rect">
              <a:avLst/>
            </a:prstGeom>
            <a:noFill/>
            <a:ln cap="sq"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a4a84"/>
                  </a:solidFill>
                  <a:latin typeface="Arial"/>
                </a:rPr>
                <a:t>Rensselaer Polytechnic Institute</a:t>
              </a:r>
              <a:endParaRPr b="0" lang="en-US" sz="24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5145120"/>
            <a:ext cx="7497720" cy="1634760"/>
            <a:chOff x="685800" y="5145120"/>
            <a:chExt cx="7497720" cy="1634760"/>
          </a:xfrm>
        </p:grpSpPr>
        <p:pic>
          <p:nvPicPr>
            <p:cNvPr id="151" name="matc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5257800" y="5410080"/>
              <a:ext cx="292572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85800" y="5145120"/>
              <a:ext cx="4648320" cy="16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a4a84"/>
                  </a:solidFill>
                  <a:latin typeface="Arial"/>
                </a:rPr>
                <a:t>Funded through</a:t>
              </a:r>
              <a:endParaRPr b="0" lang="en-US" sz="16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Mathematical Sciences and Their Applications Throughout the Curriculum: </a:t>
              </a: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4a4a84"/>
                  </a:solidFill>
                  <a:latin typeface="Arial"/>
                </a:rPr>
                <a:t>an NSF Initiative</a:t>
              </a:r>
              <a:endParaRPr b="0" lang="en-US" sz="1800" spc="-1" strike="noStrike">
                <a:solidFill>
                  <a:srgbClr val="4a4a8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20920" y="3581280"/>
            <a:ext cx="6759360" cy="2784600"/>
            <a:chOff x="1420920" y="3581280"/>
            <a:chExt cx="6759360" cy="2784600"/>
          </a:xfrm>
        </p:grpSpPr>
        <p:sp>
          <p:nvSpPr>
            <p:cNvPr id="215" name=""/>
            <p:cNvSpPr/>
            <p:nvPr/>
          </p:nvSpPr>
          <p:spPr>
            <a:xfrm>
              <a:off x="1420920" y="4308480"/>
              <a:ext cx="525780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raph Theor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erner’s Lemm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str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16" name="shortpath2" descr=""/>
            <p:cNvPicPr/>
            <p:nvPr/>
          </p:nvPicPr>
          <p:blipFill>
            <a:blip r:embed="rId1"/>
            <a:stretch/>
          </p:blipFill>
          <p:spPr>
            <a:xfrm>
              <a:off x="5334120" y="3581280"/>
              <a:ext cx="2846160" cy="278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39276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screte Mathema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45370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447920" y="4237200"/>
            <a:ext cx="7162560" cy="2315880"/>
            <a:chOff x="1447920" y="4237200"/>
            <a:chExt cx="7162560" cy="2315880"/>
          </a:xfrm>
        </p:grpSpPr>
        <p:sp>
          <p:nvSpPr>
            <p:cNvPr id="227" name=""/>
            <p:cNvSpPr/>
            <p:nvPr/>
          </p:nvSpPr>
          <p:spPr>
            <a:xfrm>
              <a:off x="1447920" y="50292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28" name="bktrs-g-s" descr=""/>
            <p:cNvPicPr/>
            <p:nvPr/>
          </p:nvPicPr>
          <p:blipFill>
            <a:blip r:embed="rId1"/>
            <a:stretch/>
          </p:blipFill>
          <p:spPr>
            <a:xfrm>
              <a:off x="4648320" y="4237200"/>
              <a:ext cx="3962160" cy="2087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1757520"/>
            <a:ext cx="6782040" cy="4186080"/>
            <a:chOff x="1295280" y="1757520"/>
            <a:chExt cx="6782040" cy="4186080"/>
          </a:xfrm>
        </p:grpSpPr>
        <p:pic>
          <p:nvPicPr>
            <p:cNvPr id="232" name="bung-bri" descr=""/>
            <p:cNvPicPr/>
            <p:nvPr/>
          </p:nvPicPr>
          <p:blipFill>
            <a:blip r:embed="rId1"/>
            <a:stretch/>
          </p:blipFill>
          <p:spPr>
            <a:xfrm>
              <a:off x="4876920" y="2876400"/>
              <a:ext cx="276048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295280" y="1757520"/>
              <a:ext cx="67820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ultiple Spring Mass System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onlinear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rced Spring Mas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inear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ring Pendulu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Vibrating String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ring Mas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95280" y="2252520"/>
            <a:ext cx="6858000" cy="2928960"/>
            <a:chOff x="1295280" y="2252520"/>
            <a:chExt cx="6858000" cy="2928960"/>
          </a:xfrm>
        </p:grpSpPr>
        <p:sp>
          <p:nvSpPr>
            <p:cNvPr id="240" name=""/>
            <p:cNvSpPr/>
            <p:nvPr/>
          </p:nvSpPr>
          <p:spPr>
            <a:xfrm>
              <a:off x="1295280" y="2252520"/>
              <a:ext cx="6705720" cy="27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Poisson and Exponential Distribu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 Random Variabl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andom Variable Re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ditional Probabilit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ans and Varianc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128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ventory Contro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41" name="normalcurves" descr=""/>
            <p:cNvPicPr/>
            <p:nvPr/>
          </p:nvPicPr>
          <p:blipFill>
            <a:blip r:embed="rId1"/>
            <a:stretch/>
          </p:blipFill>
          <p:spPr>
            <a:xfrm>
              <a:off x="5410080" y="4097160"/>
              <a:ext cx="274320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5280" y="2709720"/>
            <a:ext cx="6705720" cy="3767400"/>
            <a:chOff x="1295280" y="2709720"/>
            <a:chExt cx="6705720" cy="3767400"/>
          </a:xfrm>
        </p:grpSpPr>
        <p:sp>
          <p:nvSpPr>
            <p:cNvPr id="251" name=""/>
            <p:cNvSpPr/>
            <p:nvPr/>
          </p:nvSpPr>
          <p:spPr>
            <a:xfrm>
              <a:off x="1295280" y="2709720"/>
              <a:ext cx="6705720" cy="31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static Field and Potentia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araday's Law and I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magnetic Oscil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esistance &amp; Capacitance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Ampere's Law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1250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auss'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52" name="points" descr=""/>
            <p:cNvPicPr/>
            <p:nvPr/>
          </p:nvPicPr>
          <p:blipFill>
            <a:blip r:embed="rId1"/>
            <a:stretch/>
          </p:blipFill>
          <p:spPr>
            <a:xfrm>
              <a:off x="4267080" y="4648320"/>
              <a:ext cx="312444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95280" y="3146400"/>
            <a:ext cx="6782040" cy="3343680"/>
            <a:chOff x="1295280" y="3146400"/>
            <a:chExt cx="6782040" cy="3343680"/>
          </a:xfrm>
        </p:grpSpPr>
        <p:sp>
          <p:nvSpPr>
            <p:cNvPr id="261" name=""/>
            <p:cNvSpPr/>
            <p:nvPr/>
          </p:nvSpPr>
          <p:spPr>
            <a:xfrm>
              <a:off x="1295280" y="3146400"/>
              <a:ext cx="6705720" cy="33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cal Kinetics and Equilibri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lux and Surface Integr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Heat Conduction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863640" indent="-4064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62" name="vort2" descr=""/>
            <p:cNvPicPr/>
            <p:nvPr/>
          </p:nvPicPr>
          <p:blipFill>
            <a:blip r:embed="rId1"/>
            <a:stretch/>
          </p:blipFill>
          <p:spPr>
            <a:xfrm>
              <a:off x="4648320" y="4762440"/>
              <a:ext cx="342900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295280" y="3429000"/>
            <a:ext cx="6375600" cy="3048120"/>
            <a:chOff x="1295280" y="3429000"/>
            <a:chExt cx="6375600" cy="3048120"/>
          </a:xfrm>
        </p:grpSpPr>
        <p:sp>
          <p:nvSpPr>
            <p:cNvPr id="272" name=""/>
            <p:cNvSpPr/>
            <p:nvPr/>
          </p:nvSpPr>
          <p:spPr>
            <a:xfrm>
              <a:off x="1295280" y="3657600"/>
              <a:ext cx="52578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rystallograph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trix Ki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icycl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73" name="xtal3" descr=""/>
            <p:cNvPicPr/>
            <p:nvPr/>
          </p:nvPicPr>
          <p:blipFill>
            <a:blip r:embed="rId1"/>
            <a:stretch/>
          </p:blipFill>
          <p:spPr>
            <a:xfrm>
              <a:off x="4343400" y="3429000"/>
              <a:ext cx="332748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295280" y="2743200"/>
            <a:ext cx="7391520" cy="3211560"/>
            <a:chOff x="1295280" y="2743200"/>
            <a:chExt cx="7391520" cy="3211560"/>
          </a:xfrm>
        </p:grpSpPr>
        <p:sp>
          <p:nvSpPr>
            <p:cNvPr id="284" name=""/>
            <p:cNvSpPr/>
            <p:nvPr/>
          </p:nvSpPr>
          <p:spPr>
            <a:xfrm>
              <a:off x="1295280" y="4038480"/>
              <a:ext cx="44960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oundary Value Problems for ODEs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vature and Curve Desig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85" name="PATENT" descr=""/>
            <p:cNvPicPr/>
            <p:nvPr/>
          </p:nvPicPr>
          <p:blipFill>
            <a:blip r:embed="rId1"/>
            <a:stretch/>
          </p:blipFill>
          <p:spPr>
            <a:xfrm>
              <a:off x="5715000" y="2743200"/>
              <a:ext cx="2971800" cy="321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7 MAIN APPLIED TOPICS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5154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Mechanical Oscill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1870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3274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lectricity &amp; Magnetism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27846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Transport Phenomen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38188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304920" y="619596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32418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Linear System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6990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ystem Desig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156200"/>
            <a:ext cx="515448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Graph Theory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95280" y="3809880"/>
            <a:ext cx="6453360" cy="2735280"/>
            <a:chOff x="1295280" y="3809880"/>
            <a:chExt cx="6453360" cy="2735280"/>
          </a:xfrm>
        </p:grpSpPr>
        <p:sp>
          <p:nvSpPr>
            <p:cNvPr id="297" name=""/>
            <p:cNvSpPr/>
            <p:nvPr/>
          </p:nvSpPr>
          <p:spPr>
            <a:xfrm>
              <a:off x="1295280" y="4419720"/>
              <a:ext cx="44960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dustrial Drill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perner's Lemm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Networking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stry 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98" name="shortpath" descr=""/>
            <p:cNvPicPr/>
            <p:nvPr/>
          </p:nvPicPr>
          <p:blipFill>
            <a:blip r:embed="rId1"/>
            <a:stretch/>
          </p:blipFill>
          <p:spPr>
            <a:xfrm>
              <a:off x="4952880" y="3809880"/>
              <a:ext cx="2795760" cy="273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SAMPLE MODUL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Drag Forces on Solid Objects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Calculus / Transport Phenomena</a:t>
            </a: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Means &amp; Variances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Probability &amp; Statistic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Vibrating Strings</a:t>
            </a: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Diff Eq / Mechanical Osc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Electric Field</a:t>
            </a:r>
            <a:br>
              <a:rPr sz="20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Adv Math Methods / E &amp; M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Networking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Discrete Math / Graph Theor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a4a84"/>
                </a:solidFill>
                <a:latin typeface="Arial"/>
              </a:rPr>
              <a:t>Bicycle</a:t>
            </a:r>
            <a:br>
              <a:rPr sz="2800"/>
            </a:br>
            <a:r>
              <a:rPr b="1" lang="en-US" sz="2800" spc="-1" strike="noStrike">
                <a:solidFill>
                  <a:srgbClr val="c67b4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from Linear System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Build a library of interactive learning material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mphasize connections between Mathematics and Applied Science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Fit into existing courses rather than creating new course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arget the Studio/Workshop styles of teaching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WWW-based distribution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at courses use these modules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Primarily math, science, and engineering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~ 25% upper class / graduate level course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ere is the student during u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In a studio class, workshop, or computer lab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A professor, instructor, and/or a TA is available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What is the typical time frame for u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One to three class periods, as needed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How many are used per course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As few as one, as many as desired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How will Project Links be disseminated?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Web-based distribution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MODULE DEVELOPMENT PROCES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Content Experts 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ne Math Professor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One Applied Topics Professor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Graduate Students (RAs)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Technical Manager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eb Site Management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rogramming Support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ducational Learning Theorist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The Evaluation Consortium,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University of Alban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143000"/>
            <a:ext cx="58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he Ideal Development Team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REVIEWS &amp; EVALUATION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9640" y="1523520"/>
            <a:ext cx="675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In-house Alpha &amp; Beta Testing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ducational Expert Review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Classroom Observation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ducational Technology Assessment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Student Usability Testing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External Content Review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Users Manua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7b4a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87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4a84"/>
                </a:solidFill>
                <a:latin typeface="Arial"/>
              </a:rPr>
              <a:t>PROJECT LINKS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4793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a84"/>
                </a:solidFill>
                <a:latin typeface="Arial"/>
              </a:rPr>
              <a:t>Rensselaer Polytechnic Institute</a:t>
            </a:r>
            <a:endParaRPr b="0" lang="en-US" sz="32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4267080"/>
            <a:ext cx="7772400" cy="94932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4a84"/>
                </a:solidFill>
                <a:latin typeface="Arial"/>
              </a:rPr>
              <a:t>http://links.math.rpi.edu/</a:t>
            </a:r>
            <a:endParaRPr b="0" lang="en-US" sz="4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33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Interactive Java and Director applet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Paper and pencil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c67b4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Textbooks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371600"/>
            <a:ext cx="79246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b3b3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d5"/>
                </a:solidFill>
                <a:latin typeface="Arial"/>
              </a:rPr>
              <a:t>Promote student learning in mathematics, engineering, and science by focusing on the links between these fiel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b3b3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3d5"/>
                </a:solidFill>
                <a:latin typeface="Arial"/>
              </a:rPr>
              <a:t>Encourage interactive teaching and learning strategies that use a variety of proven tool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429000"/>
            <a:ext cx="7924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reate a library of hypertext modules that link topics in math with contemporary applications in science and engineering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648320"/>
            <a:ext cx="79246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Establish criteria and methods for assessing the success of these module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4a4a84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Support other such efforts with workshop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Content Developers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Rensselaer Polytechnic Institute (~ 40 modules) 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Hudson Valley Community College (5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University of Delaware (2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Siena (2 modules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Virginia Tech (1 module)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Evaluation Team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7b4a"/>
                </a:solidFill>
                <a:latin typeface="Arial"/>
              </a:rPr>
              <a:t>The Evaluation Consortium, University of Albany</a:t>
            </a:r>
            <a:endParaRPr b="0" lang="en-US" sz="2000" spc="-1" strike="noStrike">
              <a:solidFill>
                <a:srgbClr val="4a4a84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c67b4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67b4a"/>
                </a:solidFill>
                <a:latin typeface="Arial"/>
              </a:rPr>
              <a:t>University of Maryland</a:t>
            </a:r>
            <a:endParaRPr b="0" lang="en-US" sz="1600" spc="-1" strike="noStrike">
              <a:solidFill>
                <a:srgbClr val="4a4a8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84"/>
                </a:solidFill>
                <a:latin typeface="Arial"/>
              </a:rPr>
              <a:t>Technical Support Staff</a:t>
            </a:r>
            <a:endParaRPr b="0" lang="en-US" sz="28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447920" y="1981080"/>
            <a:ext cx="6799320" cy="4267440"/>
            <a:chOff x="1447920" y="1981080"/>
            <a:chExt cx="6799320" cy="4267440"/>
          </a:xfrm>
        </p:grpSpPr>
        <p:pic>
          <p:nvPicPr>
            <p:cNvPr id="177" name="bung-bri" descr=""/>
            <p:cNvPicPr/>
            <p:nvPr/>
          </p:nvPicPr>
          <p:blipFill>
            <a:blip r:embed="rId1"/>
            <a:stretch/>
          </p:blipFill>
          <p:spPr>
            <a:xfrm>
              <a:off x="5486400" y="3181320"/>
              <a:ext cx="2760840" cy="30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447920" y="1981080"/>
              <a:ext cx="525780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ly Stirred Tank Reactor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Sequential Batch Reac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Boundary Value Problem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ity &amp; Magnetism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chanical Oscil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rent &amp; Resistance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Lake Pollu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ss Transpor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47920" y="2590920"/>
            <a:ext cx="7010280" cy="3809880"/>
            <a:chOff x="1447920" y="2590920"/>
            <a:chExt cx="7010280" cy="3809880"/>
          </a:xfrm>
        </p:grpSpPr>
        <p:sp>
          <p:nvSpPr>
            <p:cNvPr id="185" name=""/>
            <p:cNvSpPr/>
            <p:nvPr/>
          </p:nvSpPr>
          <p:spPr>
            <a:xfrm>
              <a:off x="1447920" y="2590920"/>
              <a:ext cx="52578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araday’s Law &amp; I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lux &amp; Surface Integr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strained Optimiza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xwell’s Equ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Ampere’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Fourier Seri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Gauss’s Law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agnetic Field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186" name="gauss2d_pc" descr=""/>
            <p:cNvPicPr/>
            <p:nvPr/>
          </p:nvPicPr>
          <p:blipFill>
            <a:blip r:embed="rId1"/>
            <a:stretch/>
          </p:blipFill>
          <p:spPr>
            <a:xfrm>
              <a:off x="4876920" y="3714840"/>
              <a:ext cx="3581280" cy="2685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47920" y="3071880"/>
            <a:ext cx="7130880" cy="3100320"/>
            <a:chOff x="1447920" y="3071880"/>
            <a:chExt cx="7130880" cy="3100320"/>
          </a:xfrm>
        </p:grpSpPr>
        <p:sp>
          <p:nvSpPr>
            <p:cNvPr id="194" name=""/>
            <p:cNvSpPr/>
            <p:nvPr/>
          </p:nvSpPr>
          <p:spPr>
            <a:xfrm>
              <a:off x="1447920" y="3276720"/>
              <a:ext cx="5257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hemical Kinetics &amp; Equilibria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Drag Forces on Solid Object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Electrostatic Field &amp; Potentia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urvature &amp; Curve Desig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Heat Conduction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The Gradient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195" name="waterjump" descr=""/>
            <p:cNvPicPr/>
            <p:nvPr/>
          </p:nvPicPr>
          <p:blipFill>
            <a:blip r:embed="rId1"/>
            <a:stretch/>
          </p:blipFill>
          <p:spPr>
            <a:xfrm>
              <a:off x="6095880" y="3071880"/>
              <a:ext cx="248292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eb3"/>
            </a:gs>
            <a:gs pos="100000">
              <a:srgbClr val="faf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c67b4a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84"/>
                </a:solidFill>
                <a:latin typeface="Arial"/>
              </a:rPr>
              <a:t>6 MAIN MATH SUBJECT AREAS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30492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10800"/>
                </a:moveTo>
                <a:lnTo>
                  <a:pt x="17849" y="6775"/>
                </a:lnTo>
                <a:lnTo>
                  <a:pt x="1784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488960"/>
            <a:ext cx="3809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Differential Equation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098800"/>
            <a:ext cx="46479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Advanced Math Method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270828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Calculu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3317760"/>
            <a:ext cx="4647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4a84"/>
                </a:solidFill>
                <a:latin typeface="Arial"/>
              </a:rPr>
              <a:t>Probability &amp; Statistics</a:t>
            </a:r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47920" y="3809880"/>
            <a:ext cx="7086600" cy="2760840"/>
            <a:chOff x="1447920" y="3809880"/>
            <a:chExt cx="7086600" cy="2760840"/>
          </a:xfrm>
        </p:grpSpPr>
        <p:sp>
          <p:nvSpPr>
            <p:cNvPr id="203" name=""/>
            <p:cNvSpPr/>
            <p:nvPr/>
          </p:nvSpPr>
          <p:spPr>
            <a:xfrm>
              <a:off x="1447920" y="3809880"/>
              <a:ext cx="65530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Poisson &amp; Exponential Distribu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tinuous Random Variabl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Random Variable Relation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Conditional Probability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Means &amp; Variances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7b4a"/>
                  </a:solidFill>
                  <a:latin typeface="Arial"/>
                </a:rPr>
                <a:t>Inventory Control</a:t>
              </a: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c67b4a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a4a84"/>
                </a:solidFill>
                <a:latin typeface="Times New Roman"/>
              </a:endParaRPr>
            </a:p>
          </p:txBody>
        </p:sp>
        <p:pic>
          <p:nvPicPr>
            <p:cNvPr id="204" name="normalcurves" descr=""/>
            <p:cNvPicPr/>
            <p:nvPr/>
          </p:nvPicPr>
          <p:blipFill>
            <a:blip r:embed="rId1"/>
            <a:stretch/>
          </p:blipFill>
          <p:spPr>
            <a:xfrm>
              <a:off x="5791320" y="4572000"/>
              <a:ext cx="2743200" cy="199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457200" cy="357120"/>
          </a:xfrm>
          <a:custGeom>
            <a:avLst/>
            <a:gdLst>
              <a:gd name="textAreaLeft" fmla="*/ 89280 w 457200"/>
              <a:gd name="textAreaRight" fmla="*/ 367920 w 4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7647" h="21600">
                <a:moveTo>
                  <a:pt x="0" y="0"/>
                </a:moveTo>
                <a:lnTo>
                  <a:pt x="27647" y="0"/>
                </a:lnTo>
                <a:lnTo>
                  <a:pt x="27647" y="21600"/>
                </a:lnTo>
                <a:lnTo>
                  <a:pt x="0" y="21600"/>
                </a:lnTo>
                <a:close/>
              </a:path>
              <a:path fill="lightenLess" w="27647" h="21600">
                <a:moveTo>
                  <a:pt x="0" y="0"/>
                </a:moveTo>
                <a:lnTo>
                  <a:pt x="27647" y="0"/>
                </a:lnTo>
                <a:lnTo>
                  <a:pt x="22247" y="5400"/>
                </a:lnTo>
                <a:lnTo>
                  <a:pt x="5400" y="5400"/>
                </a:lnTo>
                <a:close/>
              </a:path>
              <a:path fill="darken" w="27647" h="21600">
                <a:moveTo>
                  <a:pt x="27647" y="0"/>
                </a:moveTo>
                <a:lnTo>
                  <a:pt x="27647" y="21600"/>
                </a:lnTo>
                <a:lnTo>
                  <a:pt x="22247" y="16200"/>
                </a:lnTo>
                <a:lnTo>
                  <a:pt x="22247" y="5400"/>
                </a:lnTo>
                <a:close/>
              </a:path>
              <a:path fill="darkenLess" w="27647" h="21600">
                <a:moveTo>
                  <a:pt x="276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2247" y="16200"/>
                </a:lnTo>
                <a:close/>
              </a:path>
              <a:path fill="lighten" w="276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7647" h="21600">
                <a:moveTo>
                  <a:pt x="9799" y="6775"/>
                </a:moveTo>
                <a:lnTo>
                  <a:pt x="17849" y="10800"/>
                </a:lnTo>
                <a:lnTo>
                  <a:pt x="9799" y="14825"/>
                </a:lnTo>
                <a:close/>
              </a:path>
            </a:pathLst>
          </a:custGeom>
          <a:noFill/>
          <a:ln w="9360">
            <a:solidFill>
              <a:srgbClr val="c67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4a4a8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16:11:59Z</dcterms:created>
  <dc:creator>Kenneth S. Manning, PhD</dc:creator>
  <dc:description/>
  <dc:language>en-US</dc:language>
  <cp:lastModifiedBy>Kenneth S. Manning, PhD</cp:lastModifiedBy>
  <dcterms:modified xsi:type="dcterms:W3CDTF">2000-09-28T15:25:50Z</dcterms:modified>
  <cp:revision>12</cp:revision>
  <dc:subject/>
  <dc:title>PowerPoint Presentation</dc:title>
</cp:coreProperties>
</file>