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6A2-30D5-47CB-9228-37D6B184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985-BEBC-40FB-BC43-F635C4D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56C-FBCE-4EF3-AD32-D82649ED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2D8-4C43-43B7-A321-CCB875A7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BB0-B651-4B28-81C1-8ACDA0E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3FD-3948-4186-8448-764F35A6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FD9-7EF5-485F-B46E-163C4990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958-3A60-460A-A561-1FFB6616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FCF-01FA-43F8-B5FB-16D51D99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22A-12EF-47BC-8BE3-D146BBE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126-1E85-4960-8D66-BD4E71B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74A-F561-45C2-86AE-9460A34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789-BC4C-40F7-9A35-94B900EA3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H. Holmes, Mathematic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ert L. Spilker, Biomedical Engineering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nneth S. Manning, Links Technical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2120" y="76320"/>
            <a:ext cx="7772400" cy="3797280"/>
            <a:chOff x="762120" y="76320"/>
            <a:chExt cx="7772400" cy="3797280"/>
          </a:xfrm>
        </p:grpSpPr>
        <p:pic>
          <p:nvPicPr>
            <p:cNvPr id="43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29000" y="3048120"/>
              <a:ext cx="5105520" cy="82548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nsselaer Polytechnic Institut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://links.math.rpi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46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114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126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139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565280"/>
            <a:ext cx="5154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17476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42900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00356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613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222880"/>
            <a:ext cx="5154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Calculus / Transport Phenom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brating Strings 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math, science, and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25% upper class / graduate level 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tudio class, workshop, or computer 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fessor, instructor, and/or a TA i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to three class periods, a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few as one, as many as des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-based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ath 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pplied Topics 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te Students (RA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it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 Sup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valuation Consortium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Alb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house Alpha &amp; Beta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ucational Exper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Support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641600"/>
            <a:ext cx="3809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4033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1654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6893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54514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295280" y="1986120"/>
            <a:ext cx="6782040" cy="4186080"/>
            <a:chOff x="1295280" y="1986120"/>
            <a:chExt cx="6782040" cy="4186080"/>
          </a:xfrm>
        </p:grpSpPr>
        <p:pic>
          <p:nvPicPr>
            <p:cNvPr id="75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31050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295280" y="19861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2252520"/>
            <a:ext cx="67057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son and Exponential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and Var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341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ormalcurves" descr=""/>
          <p:cNvPicPr/>
          <p:nvPr/>
        </p:nvPicPr>
        <p:blipFill>
          <a:blip r:embed="rId1"/>
          <a:stretch/>
        </p:blipFill>
        <p:spPr>
          <a:xfrm>
            <a:off x="5410080" y="4097160"/>
            <a:ext cx="2743200" cy="19987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93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103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5:17:00Z</dcterms:created>
  <dc:creator>Kenneth S. Manning, PhD</dc:creator>
  <dc:description/>
  <dc:language>en-US</dc:language>
  <cp:lastModifiedBy>Kenneth S. Manning, PhD</cp:lastModifiedBy>
  <dcterms:modified xsi:type="dcterms:W3CDTF">2000-06-16T15:46:26Z</dcterms:modified>
  <cp:revision>2</cp:revision>
  <dc:subject/>
  <dc:title>PowerPoint Presentation</dc:title>
</cp:coreProperties>
</file>