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D1D-4A76-4D1C-A860-EF6494C3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826-1FD1-40FC-8A2D-A23F4B5B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461-AFB9-47A2-B13D-E983A083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859-D9EC-4BE1-92A8-6C5BD31C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A5BD-1E74-41C9-92CB-074857FC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04FC-0934-49C2-A263-933A21E5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0FEE-F512-4CA8-AC79-977901F8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916B-BC49-41F4-A4AD-736A8C1C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66B-3AF0-49E3-B252-97A25885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8E21-0635-484C-A15D-104FD9C0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AEB9-0E20-4DE6-BE14-974C7943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1FA-A9E6-4C82-AAFF-3203F0DE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E9C1-18D8-4D1F-B38E-9CF340E0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1C2D-2434-4BAD-B081-F40972D8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230E-508D-4562-9C1A-61E395EB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347-4F18-41F8-90DA-69E67A9E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A216-E49A-4EEF-A89D-C952083B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4CE-A95C-4D0D-BF9A-7DEF91C4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2F7-DDEF-4497-8965-15014A78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8D2F-F467-4D33-A300-096C6569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AA3-9117-4654-A6FD-E267D4EA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BA1-6260-4B57-B52F-3AF2FC0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3B3-15C9-4625-8CC7-5155B32A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6A5-C775-4EDB-97E3-6CD1D8C5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B262-568D-4AE1-BAFF-607D26B8F9B4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DA0-04BF-4772-BC9C-A879D037A3B8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Narrow"/>
              </a:rPr>
              <a:t>The Windows NT File System</a:t>
            </a:r>
            <a:endParaRPr b="1" lang="en-US" sz="6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0720" y="28195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gis Duches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/27/1999 For VM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via.ecp.fr/~regis/ntfs/ne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7200" y="1558800"/>
            <a:ext cx="2438280" cy="459720"/>
            <a:chOff x="457200" y="1558800"/>
            <a:chExt cx="2438280" cy="459720"/>
          </a:xfrm>
        </p:grpSpPr>
        <p:sp>
          <p:nvSpPr>
            <p:cNvPr id="88" name=""/>
            <p:cNvSpPr/>
            <p:nvPr/>
          </p:nvSpPr>
          <p:spPr>
            <a:xfrm>
              <a:off x="457200" y="1635120"/>
              <a:ext cx="228564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1558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g File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7200" y="2701800"/>
            <a:ext cx="2514600" cy="459720"/>
            <a:chOff x="457200" y="2701800"/>
            <a:chExt cx="2514600" cy="459720"/>
          </a:xfrm>
        </p:grpSpPr>
        <p:sp>
          <p:nvSpPr>
            <p:cNvPr id="91" name=""/>
            <p:cNvSpPr/>
            <p:nvPr/>
          </p:nvSpPr>
          <p:spPr>
            <a:xfrm>
              <a:off x="457200" y="2701800"/>
              <a:ext cx="220968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7018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che 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200" y="3768840"/>
            <a:ext cx="3505320" cy="609480"/>
            <a:chOff x="457200" y="3768840"/>
            <a:chExt cx="3505320" cy="609480"/>
          </a:xfrm>
        </p:grpSpPr>
        <p:sp>
          <p:nvSpPr>
            <p:cNvPr id="94" name=""/>
            <p:cNvSpPr/>
            <p:nvPr/>
          </p:nvSpPr>
          <p:spPr>
            <a:xfrm>
              <a:off x="457200" y="3768840"/>
              <a:ext cx="3505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38448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rtual Memory 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715000" y="1025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558800"/>
            <a:ext cx="40384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05520" y="1940040"/>
            <a:ext cx="1904760" cy="533160"/>
            <a:chOff x="5105520" y="1940040"/>
            <a:chExt cx="1904760" cy="533160"/>
          </a:xfrm>
        </p:grpSpPr>
        <p:sp>
          <p:nvSpPr>
            <p:cNvPr id="99" name=""/>
            <p:cNvSpPr/>
            <p:nvPr/>
          </p:nvSpPr>
          <p:spPr>
            <a:xfrm>
              <a:off x="5105520" y="1940040"/>
              <a:ext cx="190476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520" y="194004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TFS D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105520" y="3159000"/>
            <a:ext cx="2666880" cy="533520"/>
            <a:chOff x="5105520" y="3159000"/>
            <a:chExt cx="2666880" cy="533520"/>
          </a:xfrm>
        </p:grpSpPr>
        <p:sp>
          <p:nvSpPr>
            <p:cNvPr id="102" name=""/>
            <p:cNvSpPr/>
            <p:nvPr/>
          </p:nvSpPr>
          <p:spPr>
            <a:xfrm>
              <a:off x="5105520" y="3159000"/>
              <a:ext cx="190476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520" y="31590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tDisk D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105520" y="4226040"/>
            <a:ext cx="2286000" cy="459720"/>
            <a:chOff x="5105520" y="4226040"/>
            <a:chExt cx="2286000" cy="459720"/>
          </a:xfrm>
        </p:grpSpPr>
        <p:sp>
          <p:nvSpPr>
            <p:cNvPr id="105" name=""/>
            <p:cNvSpPr/>
            <p:nvPr/>
          </p:nvSpPr>
          <p:spPr>
            <a:xfrm>
              <a:off x="5105520" y="4302360"/>
              <a:ext cx="19047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05520" y="42260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vice Dr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952160" y="56736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3768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5495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4835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895120" y="178704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09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43200" y="2168640"/>
            <a:ext cx="22096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23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4454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1800" y="5673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025640"/>
            <a:ext cx="84582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3880" y="533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6720" y="9144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3302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86372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397240"/>
            <a:ext cx="2514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with usual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9304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46392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997440"/>
            <a:ext cx="2514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5306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9040" y="1219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7080" y="5140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320920"/>
            <a:ext cx="26668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666880" y="1905120"/>
            <a:ext cx="60984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17524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3400" y="8380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7524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7524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75248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58200" y="1752480"/>
            <a:ext cx="4572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720" y="1752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5000" y="1752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7680" y="1752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3640" y="1752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9907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960" y="533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066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9320" y="15228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0666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10666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106668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1066680"/>
            <a:ext cx="4572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640" y="10666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00920" y="10666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3600" y="106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9200" y="10666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99072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676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280" y="2743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743200"/>
            <a:ext cx="1523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4920" y="2286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1240" y="4343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60199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Resid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71880" y="6019920"/>
            <a:ext cx="15238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71880" y="5943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4920" y="55627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876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4876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33412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5530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6324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6172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6640" y="4495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0200" y="51814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2920" y="4648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7840" y="4648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2760" y="4648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2240" y="4648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7160" y="4648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1720" y="4648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6640" y="46483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3480" y="531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68400" y="531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73320" y="531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82800" y="531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87720" y="531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92280" y="531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97200" y="531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267080"/>
            <a:ext cx="41911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6720" y="9144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3302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86372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397240"/>
            <a:ext cx="2514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File (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9304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346392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3997440"/>
            <a:ext cx="25146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File (ex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45306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7080" y="5140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320920"/>
            <a:ext cx="26668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666880" y="1905120"/>
            <a:ext cx="609840" cy="56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7524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3040" y="12952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FIL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17524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17524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29400" y="175248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58200" y="1752480"/>
            <a:ext cx="4572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720" y="1752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1640" y="175248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.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7680" y="1752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3640" y="1752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495288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495288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49528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495288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4952880"/>
            <a:ext cx="76212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720" y="49528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5000" y="49528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94600" y="495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3640" y="49528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1960" y="44956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FIL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3886200"/>
            <a:ext cx="26668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44956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286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97144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886200" y="2743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7180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3581280" y="3962160"/>
            <a:ext cx="60912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 rot="16200000">
            <a:off x="3581280" y="3962160"/>
            <a:ext cx="608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2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523880" y="990720"/>
            <a:ext cx="304812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3880" y="9907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198108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990720"/>
            <a:ext cx="6098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28600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2767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3581280"/>
            <a:ext cx="3048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5720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9907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990720"/>
            <a:ext cx="609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990720"/>
            <a:ext cx="6098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79360" y="12636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46840" y="1565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876920" y="8377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838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838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762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483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952880" y="7621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685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29200" y="68544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752480" y="533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533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5335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64796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6479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64796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62680" y="4038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680" y="28195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1752480"/>
            <a:ext cx="685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752480"/>
            <a:ext cx="685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360" y="121932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90280" y="121932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8280" y="121932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Logging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4120" y="17524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17524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1752480"/>
            <a:ext cx="13716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1828800"/>
            <a:ext cx="304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1828800"/>
            <a:ext cx="304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1828800"/>
            <a:ext cx="304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1828800"/>
            <a:ext cx="304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1828800"/>
            <a:ext cx="304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1828800"/>
            <a:ext cx="304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0" y="1828800"/>
            <a:ext cx="304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1828800"/>
            <a:ext cx="304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0120" y="1828800"/>
            <a:ext cx="304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7800" y="1676520"/>
            <a:ext cx="16002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257440" y="25146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2666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029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2590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2670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81280" y="3165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3581280"/>
            <a:ext cx="761976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3657600"/>
            <a:ext cx="1295640" cy="1828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34320" y="3657600"/>
            <a:ext cx="1295280" cy="1828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3733920"/>
            <a:ext cx="914400" cy="16002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00600" y="3733920"/>
            <a:ext cx="914400" cy="16002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733920"/>
            <a:ext cx="914400" cy="16002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733920"/>
            <a:ext cx="914400" cy="1600200"/>
          </a:xfrm>
          <a:prstGeom prst="rect">
            <a:avLst/>
          </a:prstGeom>
          <a:solidFill>
            <a:srgbClr val="cbcb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429000" y="1295280"/>
            <a:ext cx="33526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3276720"/>
            <a:ext cx="32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5257800"/>
            <a:ext cx="3276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5257800"/>
            <a:ext cx="3276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14240" y="8794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160020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72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160020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75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657600" y="22860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358128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3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358128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2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358128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69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057040" y="43434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24280" y="434340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556272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3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556272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7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556272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4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556272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56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62920" y="5562720"/>
            <a:ext cx="91440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58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7:34:26Z</dcterms:created>
  <dc:creator>Regis Duchesne</dc:creator>
  <dc:description/>
  <dc:language>en-US</dc:language>
  <cp:lastModifiedBy>Regis Duchesne</cp:lastModifiedBy>
  <dcterms:modified xsi:type="dcterms:W3CDTF">1999-01-27T20:32:26Z</dcterms:modified>
  <cp:revision>9</cp:revision>
  <dc:subject/>
  <dc:title>The Windows NT File System</dc:title>
</cp:coreProperties>
</file>